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AD1-43CD-4460-9C86-30309E81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DEB-8538-46D4-92DC-23C977E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39A-0180-466F-86A9-81FEB6D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8B0-7E7D-41C4-985D-14CBE88D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1E9-F290-4BDC-8329-8FACA4A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EAA-759A-437C-8569-9F0D45AC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053-8E9C-49C6-9D43-8CD7DB0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17-8E8F-4E83-8615-07AA9AA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1E6-BF3B-4644-80E8-408E6CA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9CF-8FAE-45A2-AE84-9594371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F40-B6C7-4FFF-B00E-BF1119D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A1B-0423-4FFE-AFB9-6D02983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49FA-DE37-4E8E-A58C-3A26E2F4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ir purse is durt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tirtle ca’nt run fas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 want to do some thing fur Bil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I want to do something for Bil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0. Do you had any idea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o you have any idea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ir purse is durt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r purse is dirt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tirtle ca’nt run fas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turtle can’t run fast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Last week end I sent a le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om red a story at bed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Last week end I sent a le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Last weekend I sent a let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m red a story at be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My mom read a story at bedti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saw a toy in the drive 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ne played a trick on 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aw a toy in the driv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He saw a toy in the drivew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ne played a trick on 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Someone played a trick on 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I fish in the pond yesserda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I will fished agen tomorrow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I fish in the pond yesserday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I fished in the pond yesterda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I will fished agen tomorrow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 will fish again tomorrow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 want to do some thing fur Bil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Do you had any ideas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1-14T02:27:36Z</dcterms:modified>
  <cp:revision>40</cp:revision>
  <dc:subject/>
  <dc:title>Slide 1</dc:title>
</cp:coreProperties>
</file>